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E6A-FAA6-4ABA-BEC1-3E0D976D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B18-013A-432E-A82B-BD1033CC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30B-4762-4538-8D5E-C5B6919B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9CA-25FA-4A57-95A8-5C8C59F2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B3E-0A35-4F75-ADC2-2BBC6F84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289-3BDF-4B4A-9D99-BDFD52D7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4EC-8BF8-4238-B633-EE0B3413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513D-EF17-4FAF-B5CD-2057C0FE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6BE-389C-44B6-BD45-6499FBA7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433-AA59-45D2-A507-D5856D15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5E6-D9F5-4057-805B-34C354B3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33B-930A-4A03-8DB3-4689E7F3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1DF5-F853-4C40-BF8E-5F6EB285D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a vida de Hugo Chav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72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y Naguib Boutros-Ghali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2706480" cy="349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28576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a ninez de Chavez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Nacido Hugo Chavez en 1954, la ciudad de Sabane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Ambos padres maestros de educacion prim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La familia Chavez fue muy pob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Hugo termina la educacion primaria an 1966 en el Grupo Escolar Julian Pin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Le gustaba el beisbol, fue monaguillo y tenia inclinaciones por la pintura, la escritura creativa y el teatr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27672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03640" y="3938760"/>
            <a:ext cx="33260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ugo En La academia milit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n 1971 Hugo fue admitio a lo academia militar de Venezue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e gradua en 1975 en ciencias y artes militares en la especialidad de ingen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n 1977, Hugo es ascendido a teniente y lo destinan a la ciudad de marac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l se casa con Nancy Colmenares quien le dara 3 hi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n 1982 es ascendido capitan y comenzo a conspirar en el Ejerci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76720" y="1052640"/>
            <a:ext cx="2994120" cy="1950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4360" y="4724280"/>
            <a:ext cx="4038480" cy="1616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84720" y="2852640"/>
            <a:ext cx="26211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La vida politic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n 1982, funda Chavez el Movimiento Bolivariano revolucionario 200 en alusion de los 200 annos del natalicio de Simon Boliv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n 1992, en Maracibo, Francisco Aria Cardenas logra apoderarse del gobierno regional y toma prisionero al gobernador de Zulia con la ayuda de Chav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havez fue llevado prisionero al cuartel San Cabos en el n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havez paso 2 annos en la prision de San Francisco de yares y fue liberado en marzo de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281952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00560" y="3938760"/>
            <a:ext cx="29322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Hugo Chavez el preside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n deciembre de 1998 fue electo presidente de Venezuela con 56.5% de los vo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havez tuvo su primer periodo presidencial febrero de 1999 a enero de 2001, fue elegido por un segundo periodo presidencial de enero 2001 a enero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84720" y="620640"/>
            <a:ext cx="265464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59640" y="3141720"/>
            <a:ext cx="1859040" cy="218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348000" y="3068640"/>
            <a:ext cx="3301920" cy="3522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79280" y="3357720"/>
            <a:ext cx="299736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09:59:21Z</dcterms:created>
  <dc:creator>ybg</dc:creator>
  <dc:description/>
  <dc:language>en-US</dc:language>
  <cp:lastModifiedBy>ybg</cp:lastModifiedBy>
  <dcterms:modified xsi:type="dcterms:W3CDTF">2007-11-19T18:24:53Z</dcterms:modified>
  <cp:revision>5</cp:revision>
  <dc:subject/>
  <dc:title>La vida de Hugo Chavez</dc:title>
</cp:coreProperties>
</file>